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791-1E8A-4352-AFBB-87AE7459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654-DD97-4A78-89BE-6B97BF2A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029-6D2E-4331-9E99-3880273A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42A-D5ED-4826-8C03-F87FCF61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A89-8092-41CA-97E0-E9AA2AB4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9A0-C4AE-464D-9237-5592AE74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255-70EA-4E34-B671-3D256BAC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D20-865B-4930-960F-8053F96F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1E0-6A4F-4C57-AE4C-2F08A1E8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663-D50D-44F0-838F-13E0B83A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766-62FE-45BB-B538-0598D80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A60-FD9E-40FA-8324-A02F84E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E1E1-239C-448F-A385-F36B4007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51360" cy="80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581280" cy="1038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70106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943600" cy="14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7467480" cy="25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76920" y="289548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335268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73392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26708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858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3733920"/>
            <a:ext cx="2286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3960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36576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867280"/>
            <a:ext cx="914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19:49Z</dcterms:created>
  <dc:creator>grahams</dc:creator>
  <dc:description/>
  <dc:language>en-US</dc:language>
  <cp:lastModifiedBy>grahams</cp:lastModifiedBy>
  <dcterms:modified xsi:type="dcterms:W3CDTF">2012-03-20T14:14:47Z</dcterms:modified>
  <cp:revision>2</cp:revision>
  <dc:subject/>
  <dc:title>Slide 1</dc:title>
</cp:coreProperties>
</file>